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9D4-2DC8-42C3-8A47-CF5C6E14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E14-B02C-414B-B0AF-06E74774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3FA9-B195-439F-B190-B3E8AADF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650-9FC6-4325-BD33-F5CE7033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938-F1AE-4B1A-ADD0-C2544564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0B4-9317-4ADA-9EC0-5ED6CAD7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87B-F355-4B64-BA70-549BAE46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4AA-F6C0-4D1A-98CB-9E20FCAD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E0D-D577-40B5-8AC2-1C242B88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9E2C-F876-4FC6-B571-9D290C3E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001-4A3A-41D7-9CDC-8FE29010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547-9B76-4103-AAC9-C5AB537E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6F0D-2A84-4229-84FD-239777FD8C3F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 rot="20826600">
            <a:off x="-533520" y="4571640"/>
            <a:ext cx="2514600" cy="2610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6984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 rot="20163000">
            <a:off x="7467480" y="5000400"/>
            <a:ext cx="1905120" cy="20095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2590920" y="1219320"/>
            <a:ext cx="3762360" cy="459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ds.yahoo.com/_ylt=A9gnMiHDlFRE5_AAuPmJzbkF;_ylu=X3oDMTBkbHNiZXJuBHBvcwM0NgRzZWMDc3I-/SIG=1jlefgu8o/EXP=1146480195/**http%3A//images.search.yahoo.com/search/images/view%3Fback=http%253A%252F%252Fimages.search.yahoo.com%252Fsearch%252Fimages%253F_adv_prop%253Dimages%2526imgsz%253Dall%2526vf%253Dall%2526va%253Dwheat%2526ei%253DUTF-8%2526fr%253DFP-tab-web-t%2526b%253D41%26w=287%26h=238%26imgurl=townsvillebulletin.news.com.au%252Fcommon%252Fimagedata%252F0%252C3600%252C5112689%252C00.jpg%26rurl=http%253A%252F%252Ftownsvillebulletin.news.com.au%252Fcommon%252Fstory_page%252F0%252C7034%252C18245438%2525255E421%252C00.html%26size=34.7kB%26name=0,3600,5112689,00.jpg%26p=wheat%26type=jpeg%26no=46%26tt=337,975%26ei=UTF-8%26src=p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 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agriculture, autumn, closeup, detail, fall, farming, flora, golden, grain, grains, harvest, macro, nature, orange, plant, stalk, stalks, wheat"/>
          <p:cNvPicPr/>
          <p:nvPr/>
        </p:nvPicPr>
        <p:blipFill>
          <a:blip r:embed="rId1"/>
          <a:stretch/>
        </p:blipFill>
        <p:spPr>
          <a:xfrm>
            <a:off x="0" y="0"/>
            <a:ext cx="2406600" cy="3200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37260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0600" cy="2438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 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حتى اقدر اتبع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شو ما عندي بقدمل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ما بخلي يعرف حدى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agriculture, autumn, closeup, detail, fall, farming, flora, golden, grain, grains, harvest, macro, nature, orange, plant, stalk, stalks, wheat"/>
          <p:cNvPicPr/>
          <p:nvPr/>
        </p:nvPicPr>
        <p:blipFill>
          <a:blip r:embed="rId1"/>
          <a:stretch/>
        </p:blipFill>
        <p:spPr>
          <a:xfrm>
            <a:off x="0" y="0"/>
            <a:ext cx="2406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57400" cy="2206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لما يفتح باب المجد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ينزل ملاك ويحصد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يلي من زرع ايدي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أطيب قمحة بحقلتك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Wild Flowers and Wheat"/>
          <p:cNvPicPr/>
          <p:nvPr/>
        </p:nvPicPr>
        <p:blipFill>
          <a:blip r:embed="rId1"/>
          <a:stretch/>
        </p:blipFill>
        <p:spPr>
          <a:xfrm>
            <a:off x="0" y="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76520" y="141768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1905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167652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ليه عم تشح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 خبر ومال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ذا انا اعطي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ك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اعطيتك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سنابل قمح خضراء ممتلئة"/>
          <p:cNvPicPr/>
          <p:nvPr/>
        </p:nvPicPr>
        <p:blipFill>
          <a:blip r:embed="rId1"/>
          <a:stretch/>
        </p:blipFill>
        <p:spPr>
          <a:xfrm>
            <a:off x="0" y="0"/>
            <a:ext cx="2514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قاعد في حبس مهجور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خفيفلوا من صليب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لصليب 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 إللي 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عا كتافك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 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agriculture, autumn, closeup, detail, fall, farming, flora, golden, grain, grains, harvest, macro, nature, orange, plant, stalk, stalks, wheat"/>
          <p:cNvPicPr/>
          <p:nvPr/>
        </p:nvPicPr>
        <p:blipFill>
          <a:blip r:embed="rId1"/>
          <a:stretch/>
        </p:blipFill>
        <p:spPr>
          <a:xfrm>
            <a:off x="0" y="0"/>
            <a:ext cx="2406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38560" cy="2666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388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بالبرد ويوقف عاالباب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دملوا احسن تياب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تيابي صاروا قلال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747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430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مريض القلب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 ومجروح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زيارتي بتقويلو الروح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اني روحت لعندك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1:32:51Z</dcterms:created>
  <dc:creator>user</dc:creator>
  <dc:description/>
  <dc:language>en-US</dc:language>
  <cp:lastModifiedBy>Kalisse</cp:lastModifiedBy>
  <dcterms:modified xsi:type="dcterms:W3CDTF">2006-11-11T01:32:45Z</dcterms:modified>
  <cp:revision>19</cp:revision>
  <dc:subject/>
  <dc:title>Slide 1</dc:title>
</cp:coreProperties>
</file>